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F22C4-D973-4557-ABAA-49768BA22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EC75A-807A-4E45-8ED8-0158CC2FF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55C10-F708-4C52-A467-90BBBA40C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73923-600E-494B-9749-ECF0BDD8E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06DD7-B99A-4379-AB10-8A39E6864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34923-71A3-4181-95F3-2CD3017E9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4525F-F4D5-401F-A31F-4D6131DF5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DB228-651C-4C55-8978-D33F64E4F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B3E1C-FA3D-4125-8D88-76581239C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7BF94-CBE2-4229-8531-2E9C54873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8BD69-CD9E-4FC0-82F7-062406984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9B8E5-5B8C-4A10-8E5F-01E3C47FB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7424E-0E2B-4624-8C08-00C86D517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13992-0668-4A05-9200-29CEEC746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1D119-4746-4C88-ADAC-6E7A6C56E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66C11-6494-4E37-AEC8-625A0E5FF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3BC8E-D941-4FC5-999E-FCCBF5411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603CB6-3EF9-44E6-9408-BDA3EAB3B9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AA9E5B-DF0D-4017-AC51-BF6EB86A99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3ACC90-A4B5-4A91-B83E-CCBCD58073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BC4B34-D1EE-4AF1-BB2D-745BAA4D4D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113AC0-DAC4-4D2D-BFFF-9946BE160B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794AA-81C6-4A9D-8941-57EECB0FD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AF89BF-75DD-4FD2-9E92-8109D50D2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3F063-CBAF-4B6B-8734-A7D885E7A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39E5B-F97A-411C-B2C2-72419FFA4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08B2B7-2128-41C6-BCA9-3FCCC84EB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535A1-DFE0-47F8-9BEC-A028E222B8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AF7700-A784-4D14-9B7E-65C7CDE34F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CFDF3F-2675-45E1-8564-20A09C34EE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3314C9-44DC-4BCA-935B-B054FF0564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B460D-4C97-45F4-87C0-AD77F7A6AD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8B83DF-0893-42B5-BD6A-5210A8905A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6F316-D71F-4968-AA4D-00FCE50DE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54A2AA-D28E-4452-AC8C-277051898C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0DC12C-0206-44B8-8426-53C9F87081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A8AE06-EA8E-4AAD-B3CF-694FFAF61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D4A72-1786-4DBB-8DBD-0913B3E93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898EFC-D14A-4873-BF85-721B6110B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27A9F-799E-4635-9BC3-F6C0997D5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D79196-A1BF-4C4F-9BB7-F81DEBB57D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69063C-E022-4F26-91E0-5B26D28293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39CAE3-14BF-4AA0-9835-160625AB69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55201-BFA6-4D04-A049-7A65EFC6B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C79AD-AA94-4CF8-9A8A-C7E03880E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D5F2A-9115-4ADD-ADAC-257057C87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B69B0-AC88-4C50-81BB-D9439CEB2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49397-4767-4C1A-A7F9-4B862E73D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9E08-E3CD-409E-A3B3-98136EEA182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AC55-3190-4E68-A2F4-11F0E6B6BC6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6D56-8FFF-46D9-B584-E68CF702DCA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D5E5-E6F3-4131-B2AC-25499163DE5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4848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ctober 8-9,2013</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Agenda Item 15</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6" name=""/>
          <p:cNvGraphicFramePr/>
          <p:nvPr/>
        </p:nvGraphicFramePr>
        <p:xfrm>
          <a:off x="228600" y="152280"/>
          <a:ext cx="8686800" cy="1791000"/>
        </p:xfrm>
        <a:graphic>
          <a:graphicData uri="http://schemas.openxmlformats.org/drawingml/2006/table">
            <a:tbl>
              <a:tblPr/>
              <a:tblGrid>
                <a:gridCol w="2540160"/>
                <a:gridCol w="2286000"/>
                <a:gridCol w="2455560"/>
                <a:gridCol w="1405080"/>
              </a:tblGrid>
              <a:tr h="45720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llinois</a:t>
                      </a:r>
                      <a:endParaRPr b="0" lang="en-US" sz="2800" spc="-1" strike="noStrike">
                        <a:solidFill>
                          <a:srgbClr val="000000"/>
                        </a:solidFill>
                        <a:latin typeface="Constantia"/>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505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y</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of Violation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eter</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ths in Violation (based on 12 otherwise not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r>
              <a:tr h="295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opolis, STP</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cal Coliform</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f 11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28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3049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io, STP</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D, 5 Day</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603360" y="2816280"/>
            <a:ext cx="83214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ncompliance Dischargers</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tion 123.45 of the FWPCA Regulations requires the status of noncompliance for NPDES permit compliance schedules and effluent limitations to be submitted. This information is then placed into a Quarterly Noncompliance Report (QNCR).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data in this presentation is compiled from the Regions Quarterly Noncompliance Reports (QNCR). They were then cross referenced using EPA’s Integrated Compliance Information System (ICIS).  The ICIS Database contains data for all six basin states. Each state was also asked to double check the data in the following tables.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ue to lag time, this presentation contains QNCR data from April 2012-March 2013.</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9" name=""/>
          <p:cNvGraphicFramePr/>
          <p:nvPr/>
        </p:nvGraphicFramePr>
        <p:xfrm>
          <a:off x="152280" y="228600"/>
          <a:ext cx="8763120" cy="2847960"/>
        </p:xfrm>
        <a:graphic>
          <a:graphicData uri="http://schemas.openxmlformats.org/drawingml/2006/table">
            <a:tbl>
              <a:tblPr/>
              <a:tblGrid>
                <a:gridCol w="2133720"/>
                <a:gridCol w="2286000"/>
                <a:gridCol w="2362320"/>
                <a:gridCol w="1981080"/>
              </a:tblGrid>
              <a:tr h="45720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nnsylvania</a:t>
                      </a:r>
                      <a:endParaRPr b="0" lang="en-US" sz="2800" spc="-1" strike="noStrike">
                        <a:solidFill>
                          <a:srgbClr val="000000"/>
                        </a:solidFill>
                        <a:latin typeface="Constantia"/>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314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y</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of Violation</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eter</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ths in Violation</a:t>
                      </a:r>
                      <a:endParaRPr b="0" lang="en-US" sz="10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ased on 12 otherwise not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r>
              <a:tr h="3049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oppel Steel Corp</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ul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il &amp; Greas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301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ul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ids, Total Suspend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30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73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sehead Corp</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ul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nium, Total (as S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9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ul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ganese, Total (as Mn)</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19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ul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ids, Total Suspend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07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ul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inc</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70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ul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0" name=""/>
          <p:cNvGraphicFramePr/>
          <p:nvPr/>
        </p:nvGraphicFramePr>
        <p:xfrm>
          <a:off x="152280" y="152280"/>
          <a:ext cx="8763120" cy="5870520"/>
        </p:xfrm>
        <a:graphic>
          <a:graphicData uri="http://schemas.openxmlformats.org/drawingml/2006/table">
            <a:tbl>
              <a:tblPr/>
              <a:tblGrid>
                <a:gridCol w="2133720"/>
                <a:gridCol w="2209680"/>
                <a:gridCol w="2438640"/>
                <a:gridCol w="1981080"/>
              </a:tblGrid>
              <a:tr h="6033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est Virginia</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onstantia"/>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314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y</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of Violation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eter</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ths in Violation </a:t>
                      </a:r>
                      <a:endParaRPr b="0" lang="en-US" sz="10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d on 12 otherwise not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r>
              <a:tr h="262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G Weirton, Inc</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anide, Weak Aci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enolics, Total Recoverab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on, Total Recoverab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zen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s(2-ethylhexyl) phthalate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1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cal Coliform</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untain State Carbon</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iform, Fec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anide, Weak Acid, Dissociab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2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nium, Total Recoverab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uminum, Total Recoverab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lorine, Total Residu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oppers Industries Inc</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zo(k)fluoranthen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2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eling-Nisshin Inc</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omium, hexaval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of Follansbe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Nitrogen, Ammonia (total as N)</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1" name=""/>
          <p:cNvGraphicFramePr/>
          <p:nvPr/>
        </p:nvGraphicFramePr>
        <p:xfrm>
          <a:off x="152280" y="152280"/>
          <a:ext cx="8763120" cy="5870520"/>
        </p:xfrm>
        <a:graphic>
          <a:graphicData uri="http://schemas.openxmlformats.org/drawingml/2006/table">
            <a:tbl>
              <a:tblPr/>
              <a:tblGrid>
                <a:gridCol w="2616480"/>
                <a:gridCol w="1726920"/>
                <a:gridCol w="2514600"/>
                <a:gridCol w="1905120"/>
              </a:tblGrid>
              <a:tr h="6033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est Virginia Con’t</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onstantia"/>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314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y</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of Violation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eter</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ths in Violation</a:t>
                      </a:r>
                      <a:endParaRPr b="0" lang="en-US" sz="10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ased on 12 otherwise not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r>
              <a:tr h="262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G Steel Wheeling LLC-Beech Bottom Pla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lorid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enolics, Tot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inc, Total Recoverab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of 7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of Wheeling</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ury, Tot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1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iform, Fec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io Power-Kammer</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lorine, Total Residu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on, Total Recoverab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2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io Power Co.</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dmium, Total Recoverable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xicity (chronic), Pimephales promelas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f 4 quarters</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xicity chronic, Ceriodaphnia dubia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f 4 quarters</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G Industries Inc</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ury, Tot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of 1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on, Total Recoverab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of 1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2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pha-BHC</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a-BHC</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mma-BHC</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of 1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2" name=""/>
          <p:cNvGraphicFramePr/>
          <p:nvPr/>
        </p:nvGraphicFramePr>
        <p:xfrm>
          <a:off x="152280" y="152280"/>
          <a:ext cx="8763120" cy="5870520"/>
        </p:xfrm>
        <a:graphic>
          <a:graphicData uri="http://schemas.openxmlformats.org/drawingml/2006/table">
            <a:tbl>
              <a:tblPr/>
              <a:tblGrid>
                <a:gridCol w="2590920"/>
                <a:gridCol w="2057400"/>
                <a:gridCol w="2133720"/>
                <a:gridCol w="1981080"/>
              </a:tblGrid>
              <a:tr h="6033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est Virginia Con’t</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onstantia"/>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314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y</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of Violation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eter</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ths in Violation</a:t>
                      </a:r>
                      <a:endParaRPr b="0" lang="en-US" sz="10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ased on 12 otherwise not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r>
              <a:tr h="262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of New Martinsvil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per, Total Recoverab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ants Power Station-Willow Islan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nium, Total Recoverable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tec Industries</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ury, Tot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1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lorine, Total Residu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iform, fec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uminum, total (as Al)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ogen, Ammonia as tot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luen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2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 I Dupont DeNemours &amp; Co</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lorine, Total Residu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ury Aluminum of WV, Inc.</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lorine, Total Residu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uminum, Total Recoverab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of 4 quarters</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2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of Huntington</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lorine, Total Residu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ogen, as Ammonia</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enolics, Tot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3" name=""/>
          <p:cNvGraphicFramePr/>
          <p:nvPr/>
        </p:nvGraphicFramePr>
        <p:xfrm>
          <a:off x="152280" y="152280"/>
          <a:ext cx="8839440" cy="4724640"/>
        </p:xfrm>
        <a:graphic>
          <a:graphicData uri="http://schemas.openxmlformats.org/drawingml/2006/table">
            <a:tbl>
              <a:tblPr/>
              <a:tblGrid>
                <a:gridCol w="2781360"/>
                <a:gridCol w="1825560"/>
                <a:gridCol w="2251080"/>
                <a:gridCol w="1981440"/>
              </a:tblGrid>
              <a:tr h="43668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hio</a:t>
                      </a:r>
                      <a:endParaRPr b="0" lang="en-US" sz="2800" spc="-1" strike="noStrike">
                        <a:solidFill>
                          <a:srgbClr val="000000"/>
                        </a:solidFill>
                        <a:latin typeface="Constantia"/>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314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y</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of Violation</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eter</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ths in Violation </a:t>
                      </a:r>
                      <a:endParaRPr b="0" lang="en-US" sz="10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d on 12 otherwise not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r>
              <a:tr h="239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ern Ohio Regional WW Authority</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ids, Total Suspend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37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28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amet Marietta INC</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cal Coliform</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of 11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28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162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io Power Co. General James M Gavin Pla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per, Total Recoverab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19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33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llipolis WPCF</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per, Total Recoverab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f 2 samples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28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306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Point WWTP</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per, Total Recoverab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22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ury</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f 9 samples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12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74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onton WWTP</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ids, Total Suspend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28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lorine, Total Residual</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of 1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28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28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58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ke Energy Zimmer</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ids, Total Suspend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35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D, 5-day</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4" name=""/>
          <p:cNvGraphicFramePr/>
          <p:nvPr/>
        </p:nvGraphicFramePr>
        <p:xfrm>
          <a:off x="152280" y="152280"/>
          <a:ext cx="8763120" cy="3456000"/>
        </p:xfrm>
        <a:graphic>
          <a:graphicData uri="http://schemas.openxmlformats.org/drawingml/2006/table">
            <a:tbl>
              <a:tblPr/>
              <a:tblGrid>
                <a:gridCol w="2397240"/>
                <a:gridCol w="1865160"/>
                <a:gridCol w="2595600"/>
                <a:gridCol w="1905120"/>
              </a:tblGrid>
              <a:tr h="45720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entucky</a:t>
                      </a:r>
                      <a:endParaRPr b="0" lang="en-US" sz="2800" spc="-1" strike="noStrike">
                        <a:solidFill>
                          <a:srgbClr val="000000"/>
                        </a:solidFill>
                        <a:latin typeface="Constantia"/>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424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y</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of Violation</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eter</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ths in Violation </a:t>
                      </a:r>
                      <a:endParaRPr b="0" lang="en-US" sz="10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d on 12 otherwise not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r>
              <a:tr h="225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ont Wurtland Pla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ids, Total Suspend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28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457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ern Reg Water Reclamation Facility</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oli</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28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ids, Total Suspend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18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D, 5-day</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38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189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28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ensboro East STP</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oli</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179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ids, Total Suspend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185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195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mberly-Clark Corp</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solved Oxygen</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5" name=""/>
          <p:cNvGraphicFramePr/>
          <p:nvPr/>
        </p:nvGraphicFramePr>
        <p:xfrm>
          <a:off x="228600" y="192240"/>
          <a:ext cx="8686800" cy="1865160"/>
        </p:xfrm>
        <a:graphic>
          <a:graphicData uri="http://schemas.openxmlformats.org/drawingml/2006/table">
            <a:tbl>
              <a:tblPr/>
              <a:tblGrid>
                <a:gridCol w="2854440"/>
                <a:gridCol w="1793880"/>
                <a:gridCol w="2057400"/>
                <a:gridCol w="1981080"/>
              </a:tblGrid>
              <a:tr h="45540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diana</a:t>
                      </a:r>
                      <a:endParaRPr b="0" lang="en-US" sz="2800" spc="-1" strike="noStrike">
                        <a:solidFill>
                          <a:srgbClr val="000000"/>
                        </a:solidFill>
                        <a:latin typeface="Constantia"/>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487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y</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of Violation</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eter</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ths in Violation</a:t>
                      </a:r>
                      <a:endParaRPr b="0" lang="en-US" sz="10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ased on 12 otherwise noted)</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r>
              <a:tr h="290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ctran Corp-Sigeco F.B. Culley Station</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oli</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of 7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10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19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burgh WWTP</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per, Total Recoverable</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01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luent</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ogen, as Ammonia</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Constanti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15:08:39Z</dcterms:created>
  <dc:creator>Stacey Lea Cochran</dc:creator>
  <dc:description/>
  <dc:language>en-US</dc:language>
  <cp:lastModifiedBy>jklear</cp:lastModifiedBy>
  <dcterms:modified xsi:type="dcterms:W3CDTF">2013-10-15T15:28:24Z</dcterms:modified>
  <cp:revision>64</cp:revision>
  <dc:subject/>
  <dc:title>Noncompliance Report</dc:title>
</cp:coreProperties>
</file>